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ahoma"/>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3B02-A244-4C63-82DA-7D3846C1C0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ahoma"/>
              </a:rPr>
              <a:t>6.171 straipsnis. </a:t>
            </a:r>
            <a:r>
              <a:rPr b="0" lang="lt-LT" sz="1200" spc="-1" strike="noStrike">
                <a:solidFill>
                  <a:srgbClr val="000000"/>
                </a:solidFill>
                <a:latin typeface="Tahoma"/>
              </a:rPr>
              <a:t>Viešoji oferta 1. Viešąja oferta laikomas visiems skirtas pasiūlymas sudaryti sutartį, taip pat prekių pažymėtomis kainomis išdėstymas parduotuvės vitrinoje ar lentynoje arba atlyginimo pažadėjimas už tam tikrų veiksmų atlikimą. 2. Viešoji oferta, atšaukta tokia pat forma, kaip buvo pareikšta, tampa negaliojanti, nors apie jos atšaukimą sužinojo ne visi asmenys, kuriems oferta buvo žinoma. 3. Viešąja oferta nelaikomi kainoraščiai, prospektai, katalogai, tarifai ir kita informacinė medžiaga, išskyrus įstatymų nustatytas išimti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JUNGTINIŲ TAUTŲ KONVENCIJA DĖL </a:t>
            </a:r>
            <a:r>
              <a:rPr b="0" lang="lt-LT" sz="1200" spc="-1" strike="noStrike" u="sng">
                <a:solidFill>
                  <a:srgbClr val="ccccff"/>
                </a:solidFill>
                <a:uFillTx/>
                <a:latin typeface="Tahoma"/>
                <a:hlinkClick r:id="rId1" action="ppaction://hlinksldjump"/>
              </a:rPr>
              <a:t>TARPTAUTINIO</a:t>
            </a:r>
            <a:r>
              <a:rPr b="0" lang="lt-LT" sz="1200" spc="-1" strike="noStrike">
                <a:solidFill>
                  <a:srgbClr val="000000"/>
                </a:solidFill>
                <a:latin typeface="Tahoma"/>
              </a:rPr>
              <a:t> </a:t>
            </a:r>
            <a:r>
              <a:rPr b="0" lang="lt-LT" sz="1200" spc="-1" strike="noStrike" u="sng">
                <a:solidFill>
                  <a:srgbClr val="ccccff"/>
                </a:solidFill>
                <a:uFillTx/>
                <a:latin typeface="Tahoma"/>
                <a:hlinkClick r:id="rId2" action="ppaction://hlinksldjump"/>
              </a:rPr>
              <a:t>PREKIŲ</a:t>
            </a:r>
            <a:r>
              <a:rPr b="0" lang="lt-LT" sz="1200" spc="-1" strike="noStrike">
                <a:solidFill>
                  <a:srgbClr val="000000"/>
                </a:solidFill>
                <a:latin typeface="Tahoma"/>
              </a:rPr>
              <a:t> </a:t>
            </a:r>
            <a:r>
              <a:rPr b="0" lang="lt-LT" sz="1200" spc="-1" strike="noStrike" u="sng">
                <a:solidFill>
                  <a:srgbClr val="ccccff"/>
                </a:solidFill>
                <a:uFillTx/>
                <a:latin typeface="Tahoma"/>
                <a:hlinkClick r:id="rId3" action="ppaction://hlinksldjump"/>
              </a:rPr>
              <a:t>PIRKIMO</a:t>
            </a:r>
            <a:r>
              <a:rPr b="0" lang="lt-LT" sz="1200" spc="-1" strike="noStrike">
                <a:solidFill>
                  <a:srgbClr val="000000"/>
                </a:solidFill>
                <a:latin typeface="Tahoma"/>
              </a:rPr>
              <a:t> - </a:t>
            </a:r>
            <a:r>
              <a:rPr b="0" lang="lt-LT" sz="1200" spc="-1" strike="noStrike" u="sng">
                <a:solidFill>
                  <a:srgbClr val="ccccff"/>
                </a:solidFill>
                <a:uFillTx/>
                <a:latin typeface="Tahoma"/>
                <a:hlinkClick r:id="rId4" action="ppaction://hlinksldjump"/>
              </a:rPr>
              <a:t>PARDAVIMO</a:t>
            </a:r>
            <a:r>
              <a:rPr b="0" lang="lt-LT" sz="1200" spc="-1" strike="noStrike">
                <a:solidFill>
                  <a:srgbClr val="000000"/>
                </a:solidFill>
                <a:latin typeface="Tahoma"/>
              </a:rPr>
              <a:t> SUTARČIŲ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14 straipsnis</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EF36C-2644-4582-9534-C6AFDCC77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9E9FA-33F6-49BA-BBE5-301F8CA6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35AE4-70A4-4432-8D33-39F9F70C9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72878-9C47-4A5A-A577-9361BFA82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192DC-471F-4D01-B614-D98B82059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C1AE7-D3C5-40E6-B137-BA742E4BB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0C934-FCFF-4E1C-AF19-D2868DF55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263DE-5DE0-4F0C-AE0C-6215C4BF3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33913-5EAF-4A53-88EF-969AF3672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44A29-13D6-492B-94F6-F9FD61CA8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7B3EF-003F-4F49-A1BF-53DC9137E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2B73-8A99-4800-8128-1981A1F2B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FCA2F-78C4-4406-B694-26389B3FD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F9D83-A09A-447E-BA71-890EE5772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4F842-8CCE-419E-8800-F7E1102FB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ABD54-BC22-48A3-B160-3421B364A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BDD21-35BE-4A5D-ABFB-C2198D868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301F4-0E7D-4494-8E6B-89AD90566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1315B-DF80-4C92-8821-980EF047C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6A13D-9CFF-443F-B956-B6D2EB1A7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57B5-A28B-4C71-98CD-98968455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D960-803A-4621-86BA-B2A62B0A7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A88D-0225-42CC-A884-09E639790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AA25F-642D-4205-B4F2-EB602F4F2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15C2-7E8B-4483-A546-C56F1054E88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2D1E-FACB-43DB-8F71-7991BC10DB1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 sutarti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s sudaryta nuo akcepto gavimo, jei sutartyje nenumatyta kitai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K 1.181 </a:t>
            </a:r>
            <a:r>
              <a:rPr b="0" lang="lt-LT" sz="2400" spc="-1" strike="noStrike">
                <a:solidFill>
                  <a:srgbClr val="003366"/>
                </a:solidFill>
                <a:latin typeface="Arial"/>
              </a:rPr>
              <a:t>straipsn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es sudarymo vieta – oferento gyvenamoji ar verslo vie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a:t>
            </a:r>
            <a:r>
              <a:rPr b="0" lang="en-US" sz="2400" spc="-1" strike="noStrike">
                <a:solidFill>
                  <a:srgbClr val="003366"/>
                </a:solidFill>
                <a:latin typeface="Arial"/>
              </a:rPr>
              <a:t>1.69</a:t>
            </a:r>
            <a:r>
              <a:rPr b="0" lang="lt-LT" sz="2400" spc="-1" strike="noStrike">
                <a:solidFill>
                  <a:srgbClr val="003366"/>
                </a:solidFill>
                <a:latin typeface="Arial"/>
              </a:rPr>
              <a:t>, </a:t>
            </a:r>
            <a:r>
              <a:rPr b="0" lang="en-US" sz="2400" spc="-1" strike="noStrike">
                <a:solidFill>
                  <a:srgbClr val="003366"/>
                </a:solidFill>
                <a:latin typeface="Arial"/>
              </a:rPr>
              <a:t>6.181 </a:t>
            </a:r>
            <a:r>
              <a:rPr b="0" lang="lt-LT" sz="2400" spc="-1" strike="noStrike">
                <a:solidFill>
                  <a:srgbClr val="003366"/>
                </a:solidFill>
                <a:latin typeface="Arial"/>
              </a:rPr>
              <a:t>straipsni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cepcijos teorija</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nešimas įsigalioja kai gavėjas realiai gavo pranešimą ar jis tapo prieinamas, nors jis dar nėra sužinojęs jo turinio</a:t>
            </a:r>
            <a:r>
              <a:rPr b="0" lang="en-US" sz="2400" spc="-1" strike="noStrike">
                <a:solidFill>
                  <a:srgbClr val="003366"/>
                </a:solidFill>
                <a:latin typeface="Arial"/>
              </a:rPr>
              <a:t> </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ėjimo teorija - pranešimo įsigaliojimo momentas-kai pranešimas tapo prieinamas gavėjui, t.y. pateko į jo dispoziciją tokioje vietoje</a:t>
            </a:r>
            <a:r>
              <a:rPr b="0" lang="en-US" sz="2400" spc="-1" strike="noStrike">
                <a:solidFill>
                  <a:srgbClr val="003366"/>
                </a:solidFill>
                <a:latin typeface="Arial"/>
              </a:rPr>
              <a:t>,</a:t>
            </a:r>
            <a:r>
              <a:rPr b="0" lang="lt-LT" sz="2400" spc="-1" strike="noStrike">
                <a:solidFill>
                  <a:srgbClr val="003366"/>
                </a:solidFill>
                <a:latin typeface="Arial"/>
              </a:rPr>
              <a:t> kurioje gavėjas protingai įprastoje verslo eigoje tikisi gauti tokio pobūdžio pranešim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itos teorijo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 (sužinoj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što dėžutės (išsiunt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Formulavimo teorija (pranešimo (atsakymo) formulavimo moment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cepcijos teorija pagal UNCITR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gavėjas yra paskyręs konkrečią informacinę sistemą gavimas yra kai:</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uomenų pranešimas įeina į paskirtą informacinę sistemą;</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duomenų pranešimas nusiųstas į kitą informacinę sistemą – kai gavėjas paima jį iš informacinės sistemo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nėra paskyręs konkrečios informacinės sistemos – gavimas - kai duomenų pranešimas įeina į gavėjo informacinę siste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IVPĮ</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2. Pasiūlymas sudaryti sutartį (oferta) ir (ar) pateikto pasiūlymo sudaryti sutartį priėmimas (akceptas) laikomi išsiųstais, kai šalis ar jos atstovas, </a:t>
            </a:r>
            <a:r>
              <a:rPr b="1" lang="lt-LT" sz="2000" spc="-1" strike="noStrike">
                <a:solidFill>
                  <a:srgbClr val="003366"/>
                </a:solidFill>
                <a:latin typeface="Arial"/>
              </a:rPr>
              <a:t>kurie juos išsiuntė, nebegali jų pasiekti ir kontroliuo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3. Pasiūlymas sudaryti sutartį (oferta) ir (ar) pateikto pasiūlymo sudaryti sutartį priėmimas (akceptas) laikomi gautais, </a:t>
            </a:r>
            <a:r>
              <a:rPr b="1" lang="lt-LT" sz="2000" spc="-1" strike="noStrike">
                <a:solidFill>
                  <a:srgbClr val="003366"/>
                </a:solidFill>
                <a:latin typeface="Arial"/>
              </a:rPr>
              <a:t>kai šalis, kuriai jie skirti, gali juos pasiek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4. Pasiūlymas sudaryti sutartį (oferta) ir (ar) pateikto pasiūlymo sudaryti sutartį priėmimas (akceptas) laikomi </a:t>
            </a:r>
            <a:r>
              <a:rPr b="1" lang="lt-LT" sz="2000" spc="-1" strike="noStrike">
                <a:solidFill>
                  <a:srgbClr val="003366"/>
                </a:solidFill>
                <a:latin typeface="Arial"/>
              </a:rPr>
              <a:t>išsiųstais ir (ar) gautais</a:t>
            </a:r>
            <a:r>
              <a:rPr b="0" lang="lt-LT" sz="2000" spc="-1" strike="noStrike">
                <a:solidFill>
                  <a:srgbClr val="003366"/>
                </a:solidFill>
                <a:latin typeface="Arial"/>
              </a:rPr>
              <a:t> pasiūlymą sudaryti sutartį pateikusios šalies (oferento) ir (ar) pasiūlymą sudaryti sutartį priėmusios šalies (akceptanto) </a:t>
            </a:r>
            <a:r>
              <a:rPr b="1" lang="lt-LT" sz="2000" spc="-1" strike="noStrike">
                <a:solidFill>
                  <a:srgbClr val="003366"/>
                </a:solidFill>
                <a:latin typeface="Arial"/>
              </a:rPr>
              <a:t>gyvenamojoje arba verslo vietoje.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Click-Wrap”</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naudotojo sutikimas su sutarties sąlygomis išreiškiamas pelės spustelėjim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Browse-Wrap”</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veiksmas (pvz., mygtuko paspaudimas), įgalinantis pradėti sutarties vykdymą (pvz., produkto atsiuntimą) laikomas pakankamu naudotojo valios išreiškim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š esmės yra konkliudentiniais veiksmais sudaryti susitarim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K </a:t>
            </a:r>
            <a:r>
              <a:rPr b="0" lang="en-US" sz="2800" spc="-1" strike="noStrike">
                <a:solidFill>
                  <a:srgbClr val="003366"/>
                </a:solidFill>
                <a:latin typeface="Arial"/>
              </a:rPr>
              <a:t>6.185 </a:t>
            </a:r>
            <a:r>
              <a:rPr b="0" lang="lt-LT" sz="2800" spc="-1" strike="noStrike">
                <a:solidFill>
                  <a:srgbClr val="003366"/>
                </a:solidFill>
                <a:latin typeface="Arial"/>
              </a:rPr>
              <a:t>str. </a:t>
            </a:r>
            <a:r>
              <a:rPr b="0" lang="en-US" sz="2800" spc="-1" strike="noStrike">
                <a:solidFill>
                  <a:srgbClr val="003366"/>
                </a:solidFill>
                <a:latin typeface="Arial"/>
              </a:rPr>
              <a:t>1 </a:t>
            </a:r>
            <a:r>
              <a:rPr b="0" lang="lt-LT" sz="2800" spc="-1" strike="noStrike">
                <a:solidFill>
                  <a:srgbClr val="003366"/>
                </a:solidFill>
                <a:latin typeface="Arial"/>
              </a:rPr>
              <a:t>d. sutarčių standartinės sąlygos – sąlygos, kurias bendram nevienkartiniam naudojimui iš anksto parengia viena šalis nederindama jų su kita šalimi ir kurios be derybų su kita šalimi taikomos sudaromose sutarty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6.185 str. 2 d. reikalauja, kad sutarties standartinės sąlygos privalomos kitai šaliai tik tuo atveju, jeigu jai buvo sudaryta </a:t>
            </a:r>
            <a:r>
              <a:rPr b="1" lang="lt-LT" sz="2400" spc="-1" strike="noStrike">
                <a:solidFill>
                  <a:srgbClr val="003366"/>
                </a:solidFill>
                <a:latin typeface="Arial"/>
              </a:rPr>
              <a:t>tinkama</a:t>
            </a:r>
            <a:r>
              <a:rPr b="0" lang="lt-LT" sz="2400" spc="-1" strike="noStrike">
                <a:solidFill>
                  <a:srgbClr val="003366"/>
                </a:solidFill>
                <a:latin typeface="Arial"/>
              </a:rPr>
              <a:t> galimybė su tomis sąlygomis susipažinti. Jei abi šalys verslininkai, tinkama:</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ąlygų įteikimas raštu iki sutarties pasirašymo ar ją pasiraša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ki sutarties pasirašymo pranešimas kitai šaliai, kad sutartis bus sudaroma pagal standartines sąlygas, su kuriomis galima susipažinti nurodytoje vietoj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siūlymas atsiųsti sąlygų kopij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kėtos (siurprizinės) sutarčių standartinės sąlygos – t.y., tokios, kurių kita šalis negalėjo protingai tikėtis būsiant sutartyje</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elaikomos tokios, su kuriomis aiškiai sutiko, kai jos tai šaliai buvo tinkamai atskleistos</a:t>
            </a:r>
            <a:endParaRPr b="0" lang="en-US" sz="2000" spc="-1" strike="noStrike">
              <a:solidFill>
                <a:srgbClr val="003366"/>
              </a:solidFill>
              <a:latin typeface="Arial"/>
            </a:endParaRPr>
          </a:p>
          <a:p>
            <a:pPr lvl="2" marL="1131480" indent="-22608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Pvz., atskiro mygtuko paspaudimas</a:t>
            </a:r>
            <a:endParaRPr b="0" lang="en-US" sz="18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86</a:t>
            </a:r>
            <a:r>
              <a:rPr b="0" lang="lt-LT" sz="2000" spc="-1" strike="noStrike">
                <a:solidFill>
                  <a:srgbClr val="003366"/>
                </a:solidFill>
                <a:latin typeface="Arial"/>
              </a:rPr>
              <a:t> straipsni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ąlygos aiškinamos pasiūliusios (parengusios) šalies nenaudai</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93 </a:t>
            </a:r>
            <a:r>
              <a:rPr b="0" lang="lt-LT" sz="2000" spc="-1" strike="noStrike">
                <a:solidFill>
                  <a:srgbClr val="003366"/>
                </a:solidFill>
                <a:latin typeface="Arial"/>
              </a:rPr>
              <a:t>straipsni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or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dary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ykdy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sminė šalių nelygybė:</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s gali atsisakyti sutarties ar atskiros jos sąlygos, jeigu sutarties sudarymo metu sutartis ar atskira jos sąlyga nepagrįstai suteikė kitai šaliai perdėtą pranašu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VPĮ 9 ir 10 straipsnia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ykdymas</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e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radiciniu “materialiu” būd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u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Sutartis – dviejų ar daugiau asmenų susitarimas sukurti, pakeisti ar nutraukti civilinius teisinius santykius, kai vienas ar keli asmenys įsipareigoja kitam asmeniui ar asmenims atlikti tam tikrus veiksmus (ar susilaikyti nuo tam tikrų veiksmų atlikimo), o pastarieji įgyja reikalavimo teisę</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E</a:t>
            </a:r>
            <a:r>
              <a:rPr b="0" lang="fr-FR" sz="2400" spc="-1" strike="noStrike">
                <a:solidFill>
                  <a:srgbClr val="003366"/>
                </a:solidFill>
                <a:latin typeface="Arial Unicode MS"/>
              </a:rPr>
              <a:t>lektroninė sutarties forma - tai sutartis tarp</a:t>
            </a:r>
            <a:r>
              <a:rPr b="0" lang="lt-LT" sz="2400" spc="-1" strike="noStrike">
                <a:solidFill>
                  <a:srgbClr val="003366"/>
                </a:solidFill>
                <a:latin typeface="Arial Unicode MS"/>
              </a:rPr>
              <a:t> šalių,</a:t>
            </a:r>
            <a:r>
              <a:rPr b="0" lang="fr-FR" sz="2400" spc="-1" strike="noStrike">
                <a:solidFill>
                  <a:srgbClr val="003366"/>
                </a:solidFill>
                <a:latin typeface="Arial Unicode MS"/>
              </a:rPr>
              <a:t> sudaryta</a:t>
            </a:r>
            <a:r>
              <a:rPr b="0" lang="lt-LT" sz="2400" spc="-1" strike="noStrike">
                <a:solidFill>
                  <a:srgbClr val="003366"/>
                </a:solidFill>
                <a:latin typeface="Arial Unicode MS"/>
              </a:rPr>
              <a:t> </a:t>
            </a:r>
            <a:r>
              <a:rPr b="0" lang="fr-FR" sz="2400" spc="-1" strike="noStrike">
                <a:solidFill>
                  <a:srgbClr val="003366"/>
                </a:solidFill>
                <a:latin typeface="Arial Unicode MS"/>
              </a:rPr>
              <a:t>keitimosi elektroniniais duomenų pranešimais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ybė veikti per elektroninius agentu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Kompiuterių programos, priimančios sprendimus ir sudarančios sutart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ų anonimišku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okiu atveju n</a:t>
            </a:r>
            <a:r>
              <a:rPr b="0" lang="en-US" sz="2000" spc="-1" strike="noStrike">
                <a:solidFill>
                  <a:srgbClr val="003366"/>
                </a:solidFill>
                <a:latin typeface="Arial"/>
              </a:rPr>
              <a:t>egalima remtis liudyto</a:t>
            </a:r>
            <a:r>
              <a:rPr b="0" lang="lt-LT" sz="2000" spc="-1" strike="noStrike">
                <a:solidFill>
                  <a:srgbClr val="003366"/>
                </a:solidFill>
                <a:latin typeface="Arial"/>
              </a:rPr>
              <a:t>jų parodymais sandorio sudarymo faktui įrodyti</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ais atvejais, kai šalių statusas suponuoja specifines sąlygas, statusas nustatomas iš kitų aplinkybių (pvz., pačios šalies nurodym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sunkintas sandorio įgyvendinamu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al</a:t>
            </a:r>
            <a:r>
              <a:rPr b="0" lang="en-GB" sz="2800" spc="-1" strike="noStrike">
                <a:solidFill>
                  <a:srgbClr val="003366"/>
                </a:solidFill>
                <a:latin typeface="Arial"/>
              </a:rPr>
              <a:t> IVP</a:t>
            </a:r>
            <a:r>
              <a:rPr b="0" lang="lt-LT" sz="2800" spc="-1" strike="noStrike">
                <a:solidFill>
                  <a:srgbClr val="003366"/>
                </a:solidFill>
                <a:latin typeface="Arial"/>
              </a:rPr>
              <a:t>Į 11 straipsnio 1 dalį ir UNCITRAL Pavyzdinį elektroninės komercijos įstatymą duomenų pranešimas priskiriamas šaliai, kai jis atsiųs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čios šal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galiot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s sistemos, suprogramuotos šalies ar šalies vardu veikti automatišk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Rašytin</a:t>
            </a:r>
            <a:r>
              <a:rPr b="0" lang="lt-LT" sz="2800" spc="-1" strike="noStrike">
                <a:solidFill>
                  <a:srgbClr val="003366"/>
                </a:solidFill>
                <a:latin typeface="Arial"/>
              </a:rPr>
              <a:t>ės formos reikalavimai</a:t>
            </a:r>
            <a:r>
              <a:rPr b="0" lang="fr-FR"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žtikrinta teksto apsauga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a identifikuoti parašą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uri būti pakankamai duomenų sandorio šalims nustatyti (kitaip negalima remtis liudytojų parodymais sandorio sudarymo faktui įrodyti)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1.73, 6.192 straipsniai</a:t>
            </a:r>
            <a:r>
              <a:rPr b="0" lang="en-US" sz="2000" spc="-1" strike="noStrike">
                <a:solidFill>
                  <a:srgbClr val="003366"/>
                </a:solidFill>
                <a:latin typeface="Arial"/>
              </a:rPr>
              <a:t>,</a:t>
            </a:r>
            <a:r>
              <a:rPr b="0" lang="lt-LT" sz="2000" spc="-1" strike="noStrike">
                <a:solidFill>
                  <a:srgbClr val="003366"/>
                </a:solidFill>
                <a:latin typeface="Arial"/>
              </a:rPr>
              <a:t> 1.76 straipsnio </a:t>
            </a:r>
            <a:r>
              <a:rPr b="0" lang="en-US" sz="2000" spc="-1" strike="noStrike">
                <a:solidFill>
                  <a:srgbClr val="003366"/>
                </a:solidFill>
                <a:latin typeface="Arial"/>
              </a:rPr>
              <a:t>2 </a:t>
            </a:r>
            <a:r>
              <a:rPr b="0" lang="lt-LT" sz="2000" spc="-1" strike="noStrike">
                <a:solidFill>
                  <a:srgbClr val="003366"/>
                </a:solidFill>
                <a:latin typeface="Arial"/>
              </a:rPr>
              <a:t>dali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sus reikalavimus tenkina tik saugus elektroninis parašas (ypač </a:t>
            </a:r>
            <a:r>
              <a:rPr b="0" lang="en-US" sz="2000" spc="-1" strike="noStrike">
                <a:solidFill>
                  <a:srgbClr val="003366"/>
                </a:solidFill>
                <a:latin typeface="Arial"/>
              </a:rPr>
              <a:t>1 </a:t>
            </a:r>
            <a:r>
              <a:rPr b="0" lang="lt-LT" sz="2000" spc="-1" strike="noStrike">
                <a:solidFill>
                  <a:srgbClr val="003366"/>
                </a:solidFill>
                <a:latin typeface="Arial"/>
              </a:rPr>
              <a:t>reikalavi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utartis paprastai nėra negaliojanti, jei ji nėra rašytinė</a:t>
            </a:r>
            <a:endParaRPr b="0" lang="en-US" sz="24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teisės aktai reikalauja, kad būtų rašytinė, negalima remtis liudytojų parodymais sandorio sudarymo ar įvykdymo faktui įrodyti. Šios nuostatos teismas gali netaikyti, jei tai prieštarautų sąžiningumo, teisingumo ir protingumo principams, būtent kai:</a:t>
            </a:r>
            <a:endParaRPr b="0" lang="en-US" sz="20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ra kitokių rašytinių, nors ir netiesioginių sandorio sudarymo įrodymų;</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Sandorio sudarymo faktą patvirtinantys rašytiniai įrodymai yra prarasti ne dėl šalies kaltės;</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sandorio sudarymo aplinkybes, objektyviai nebuvo įmanoma sandorio įforminti raštu;</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šalių tarpusavio santykius, sandorio prigimtį bei kitas svarbias bylai aplinkybes, draudimas panaudoti liudytojų parodymus prieštarautų sąžiningumo, teisingumo ir protingumo principam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nustatytais atvejais formos nesilaikymas sutartį daro negaliojanči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ys, kurioms nustatyta notarinė forma ar privaloma teisinė registracija, elektroninėmis priemonėmis nesudarom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ktinis CK nuostatų taikym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ŪM Elektroninės komercijos reglamentas (abejotina gal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33cccc"/>
                </a:solidFill>
                <a:latin typeface="Arial"/>
              </a:rPr>
              <a:t>Sudary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Ofer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as sudaryti sutartį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3cccc"/>
                </a:solidFill>
                <a:latin typeface="Arial"/>
              </a:rPr>
              <a:t>pakankamai apibūdintas ir išreiškia ketinimą būti sutarties saistomam ir įsipareigojančiam akcepto atveju</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Įsigalioja akceptantui ją gav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Vieša oferta (CK v. Vienos sutart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Akcep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o sudaryti sutartį priėm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omas</cp:lastModifiedBy>
  <dcterms:modified xsi:type="dcterms:W3CDTF">2006-11-10T12:18:48Z</dcterms:modified>
  <cp:revision>87</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6225756</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